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2.png" ContentType="image/png"/>
  <Override PartName="/ppt/media/image1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4.gif" ContentType="image/gif"/>
  <Override PartName="/ppt/media/image1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2F5-8700-4A0E-AA15-075454C6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110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92040"/>
            <a:ext cx="8110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627-BCDF-4AF6-88E4-E40E54B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416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939-4059-40D7-9E8F-B732B107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7920" y="152388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400" y="152388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9204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27920" y="399204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400" y="399204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61E-ABFC-4317-95CA-AC89A2AF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EAC8-59FD-4314-8F35-551B17B9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110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8F7F-1F1E-4554-9A6C-DFDC4255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110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3636-7063-449B-B40B-CB72DBD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0ADF-936E-4B33-9EDD-D0D0950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527-77BD-4D95-BD3C-6443BB6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440" y="12960"/>
            <a:ext cx="54291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349E-DF85-471C-A2D0-83A4B0EB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5AAB-E290-4471-B1F6-8D710AD2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110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4E4-C2B9-4A3A-8A4B-7114BC1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416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88E-4B9D-4716-8D31-5708AF2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992040"/>
            <a:ext cx="8110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8CC7-DB78-4608-9DF7-9C020E1C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110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440" y="3992040"/>
            <a:ext cx="8110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E819-A257-43ED-AC4C-EA67CF4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4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416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BF19-D021-4202-B83F-0BEE3D4F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27920" y="152388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400" y="152388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440" y="399204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27920" y="399204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400" y="3992040"/>
            <a:ext cx="2611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A8A2-55FC-4B1E-9FDB-73AD288D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110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D55-9A98-4208-AA15-911571F8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00B-932F-4925-BACC-B8EE8B9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575-F659-4C89-9B9F-24DBBAD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12960"/>
            <a:ext cx="54291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980-B0BB-4099-BAE7-ED2A21FF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181-EA46-440F-AF8A-F704B46A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41640" y="399204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C19-0BF1-4000-A0E2-5EA7BF4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1640" y="1523880"/>
            <a:ext cx="3957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2040"/>
            <a:ext cx="8110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8A5-1365-4320-A459-E8FFD257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831960"/>
          <a:ext cx="9144000" cy="602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1960"/>
                    <a:ext cx="9144000" cy="60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2960"/>
            <a:ext cx="542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523880"/>
            <a:ext cx="8110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12128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73ff47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69C-62CC-42B9-BA27-8F6CA7F2F1B1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OF" descr=""/>
          <p:cNvPicPr/>
          <p:nvPr/>
        </p:nvPicPr>
        <p:blipFill>
          <a:blip r:embed="rId4"/>
          <a:stretch/>
        </p:blipFill>
        <p:spPr>
          <a:xfrm>
            <a:off x="7962840" y="0"/>
            <a:ext cx="1181160" cy="590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828800" y="10476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6600"/>
                </a:solidFill>
                <a:latin typeface="AvantGarde Md BT"/>
              </a:rPr>
              <a:t>República Federativa do Brasi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15920" y="63360"/>
          <a:ext cx="16477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920" y="63360"/>
                    <a:ext cx="1647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" name="bandeira-animada" descr="Bandeira do Brasil"/>
          <p:cNvPicPr/>
          <p:nvPr/>
        </p:nvPicPr>
        <p:blipFill>
          <a:blip r:embed="rId7"/>
          <a:stretch/>
        </p:blipFill>
        <p:spPr>
          <a:xfrm>
            <a:off x="5565600" y="214200"/>
            <a:ext cx="320760" cy="2048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1530360" y="492120"/>
            <a:ext cx="7543800" cy="7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597680"/>
            <a:ext cx="7391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8E01-BBE4-42CC-ADF2-CA965CFE793C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76480" y="138240"/>
            <a:ext cx="53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00"/>
                </a:solidFill>
                <a:latin typeface="AvantGarde Md BT"/>
              </a:rPr>
              <a:t>República Federativa do Brasi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1080" y="152280"/>
          <a:ext cx="16477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52280"/>
                    <a:ext cx="1647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2125800" y="552600"/>
            <a:ext cx="5922720" cy="1440"/>
          </a:xfrm>
          <a:prstGeom prst="line">
            <a:avLst/>
          </a:prstGeom>
          <a:ln w="475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5335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vantGarde Md BT"/>
              </a:rPr>
              <a:t>Ministério do Planejamento, Orçamento e Gestã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SOF" descr=""/>
          <p:cNvPicPr/>
          <p:nvPr/>
        </p:nvPicPr>
        <p:blipFill>
          <a:blip r:embed="rId4"/>
          <a:stretch/>
        </p:blipFill>
        <p:spPr>
          <a:xfrm>
            <a:off x="3733920" y="5486400"/>
            <a:ext cx="2181240" cy="109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28600" y="3887640"/>
            <a:ext cx="8915400" cy="8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8763120" cy="87480"/>
          </a:xfrm>
          <a:prstGeom prst="rect">
            <a:avLst/>
          </a:prstGeom>
          <a:ln w="0">
            <a:noFill/>
          </a:ln>
        </p:spPr>
      </p:pic>
      <p:pic>
        <p:nvPicPr>
          <p:cNvPr id="61" name="bandeira-animada" descr="Bandeira do Brasil"/>
          <p:cNvPicPr/>
          <p:nvPr/>
        </p:nvPicPr>
        <p:blipFill>
          <a:blip r:embed="rId7"/>
          <a:stretch/>
        </p:blipFill>
        <p:spPr>
          <a:xfrm>
            <a:off x="457200" y="1523880"/>
            <a:ext cx="1523880" cy="97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00" y="1523880"/>
            <a:ext cx="0" cy="243864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73ff47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82628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00"/>
                </a:solidFill>
                <a:latin typeface="Verdana"/>
              </a:rPr>
              <a:t>Projeto de Lei </a:t>
            </a:r>
            <a:br>
              <a:rPr sz="4400"/>
            </a:br>
            <a:r>
              <a:rPr b="1" lang="pt-BR" sz="4400" spc="-1" strike="noStrike">
                <a:solidFill>
                  <a:srgbClr val="003300"/>
                </a:solidFill>
                <a:latin typeface="Verdana"/>
              </a:rPr>
              <a:t>Orçamentária 2008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072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00"/>
                </a:solidFill>
                <a:latin typeface="Verdana"/>
              </a:rPr>
              <a:t>31 /Agosto/2007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8520" y="838080"/>
            <a:ext cx="8890200" cy="495324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995400"/>
            <a:ext cx="4197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Despesas Obrigatórias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79680"/>
            <a:ext cx="8686800" cy="369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413-D552-4C8C-98A5-2A8653F484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80920" y="762120"/>
            <a:ext cx="755964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Pessoal e Encargos e Sociais por Poder </a:t>
            </a:r>
            <a:br>
              <a:rPr sz="2800"/>
            </a:b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(exclusive CPSS e sentenças judiciai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Variação % dos valores a preços médios de 2008 (IPCA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em relação a 200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69840" y="1752480"/>
            <a:ext cx="923760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4A6-ED75-4F11-907F-3D59E81A9D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3800" y="914400"/>
            <a:ext cx="8066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volução de Pessoal e Encargos Sociais Total </a:t>
            </a:r>
            <a:br>
              <a:rPr sz="2800"/>
            </a:b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(conceito competência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Exclusive CPSS – Variação % do PI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07800" y="1425600"/>
            <a:ext cx="9594720" cy="53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2EB-8EA4-4E74-9D27-923976BA69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95400" y="685800"/>
            <a:ext cx="34527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Resultado do RGP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(valores corrent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5E9-3CEA-4F15-9305-3B1C69913F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480" y="838080"/>
            <a:ext cx="9039240" cy="556272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84560" y="3695760"/>
            <a:ext cx="973080" cy="169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8487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00"/>
                </a:solidFill>
                <a:latin typeface="Arial"/>
              </a:rPr>
              <a:t>R$ bilhõ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8672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bs: Exclui a execução de Emendas aos Orçamentos Fiscal e da Seguridade no período 2004-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866880"/>
            <a:ext cx="89917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6600"/>
                </a:solidFill>
                <a:uFillTx/>
                <a:latin typeface="AvantGarde Md BT"/>
              </a:rPr>
              <a:t>Investimentos</a:t>
            </a:r>
            <a:r>
              <a:rPr b="1" lang="pt-BR" sz="26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br>
              <a:rPr sz="2600"/>
            </a:br>
            <a:r>
              <a:rPr b="1" lang="pt-BR" sz="2600" spc="-1" strike="noStrike">
                <a:solidFill>
                  <a:srgbClr val="006600"/>
                </a:solidFill>
                <a:latin typeface="AvantGarde Md BT"/>
              </a:rPr>
              <a:t>Orçamentos Fiscal, da Seguridade e de Investimento</a:t>
            </a:r>
            <a:br>
              <a:rPr sz="2600"/>
            </a:b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(valores corrente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320" y="838080"/>
            <a:ext cx="12725280" cy="696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E44-2B09-4916-ADC0-15E7C5DE347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84560" y="3695760"/>
            <a:ext cx="973080" cy="16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6840" y="685800"/>
            <a:ext cx="84668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6600"/>
                </a:solidFill>
                <a:uFillTx/>
                <a:latin typeface="AvantGarde Md BT"/>
              </a:rPr>
              <a:t>Programa de Aceleração do Crescimento - PA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962520"/>
            <a:ext cx="381240" cy="2438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854640" y="1212840"/>
            <a:ext cx="7592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vantGarde Md BT"/>
              </a:rPr>
              <a:t>Orçamentos Fiscal e da Seguridade Social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45360" cy="52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E7F-E77C-457D-8358-E64CC7D63F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084560" y="3695760"/>
            <a:ext cx="973080" cy="169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6840" y="685800"/>
            <a:ext cx="84668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6600"/>
                </a:solidFill>
                <a:uFillTx/>
                <a:latin typeface="AvantGarde Md BT"/>
              </a:rPr>
              <a:t>Programa de Aceleração do Crescimento - PA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962520"/>
            <a:ext cx="381240" cy="2438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752400" y="1212840"/>
            <a:ext cx="69883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vantGarde Md BT"/>
              </a:rPr>
              <a:t>Orçamento de Investimento - Estatai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696440" cy="35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884-498B-431A-9435-80E566F166A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2743200"/>
            <a:ext cx="8991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Despesas Discricionárias</a:t>
            </a:r>
            <a:br>
              <a:rPr sz="4800"/>
            </a:b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( Institucional )</a:t>
            </a:r>
            <a:r>
              <a:rPr b="1" lang="pt-BR" sz="48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A7E-9C1A-4A9D-993C-61E524360D8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977760"/>
            <a:ext cx="8991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Discricionárias</a:t>
            </a:r>
            <a:br>
              <a:rPr sz="4800"/>
            </a:br>
            <a:r>
              <a:rPr b="1" lang="pt-BR" sz="4000" spc="-1" strike="noStrike">
                <a:solidFill>
                  <a:srgbClr val="006600"/>
                </a:solidFill>
                <a:latin typeface="AvantGarde Md BT"/>
              </a:rPr>
              <a:t>Total</a:t>
            </a:r>
            <a:r>
              <a:rPr b="1" lang="pt-BR" sz="40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760" y="2209680"/>
            <a:ext cx="9134640" cy="346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D4A-B6BE-46E3-AA5E-986DFC57E00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977760"/>
            <a:ext cx="8991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Discricionárias</a:t>
            </a:r>
            <a:br>
              <a:rPr sz="4800"/>
            </a:br>
            <a:r>
              <a:rPr b="1" lang="pt-BR" sz="4000" spc="-1" strike="noStrike">
                <a:solidFill>
                  <a:srgbClr val="006600"/>
                </a:solidFill>
                <a:latin typeface="AvantGarde Md BT"/>
              </a:rPr>
              <a:t>Social</a:t>
            </a:r>
            <a:r>
              <a:rPr b="1" lang="pt-BR" sz="40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373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7C1-9C67-48B4-B194-8A9516EE2E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838080"/>
            <a:ext cx="8415360" cy="563904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2364840" y="914400"/>
            <a:ext cx="458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Parâmetros do PLOA 200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501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6C9-BEE0-41E7-8B29-5A112DDBE1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977760"/>
            <a:ext cx="8991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Discricionárias</a:t>
            </a:r>
            <a:br>
              <a:rPr sz="4800"/>
            </a:br>
            <a:r>
              <a:rPr b="1" lang="pt-BR" sz="4000" spc="-1" strike="noStrike">
                <a:solidFill>
                  <a:srgbClr val="006600"/>
                </a:solidFill>
                <a:latin typeface="AvantGarde Md BT"/>
              </a:rPr>
              <a:t>Produção</a:t>
            </a:r>
            <a:r>
              <a:rPr b="1" lang="pt-BR" sz="40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268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F37-207F-47B0-94DF-C53D6079C69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977760"/>
            <a:ext cx="8991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Discricionárias</a:t>
            </a:r>
            <a:br>
              <a:rPr sz="4800"/>
            </a:br>
            <a:r>
              <a:rPr b="1" lang="pt-BR" sz="4000" spc="-1" strike="noStrike">
                <a:solidFill>
                  <a:srgbClr val="006600"/>
                </a:solidFill>
                <a:latin typeface="AvantGarde Md BT"/>
              </a:rPr>
              <a:t>Infra-Estrutura</a:t>
            </a:r>
            <a:r>
              <a:rPr b="1" lang="pt-BR" sz="40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2255760"/>
            <a:ext cx="9144000" cy="336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06E-6F6A-45A1-9FDF-95A2CD12DA4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977760"/>
            <a:ext cx="8991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vantGarde Md BT"/>
              </a:rPr>
              <a:t>Discricionárias</a:t>
            </a:r>
            <a:br>
              <a:rPr sz="4800"/>
            </a:br>
            <a:r>
              <a:rPr b="1" lang="pt-BR" sz="4000" spc="-1" strike="noStrike">
                <a:solidFill>
                  <a:srgbClr val="006600"/>
                </a:solidFill>
                <a:latin typeface="AvantGarde Md BT"/>
              </a:rPr>
              <a:t>Poderes e Administraçã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944-EDF8-4635-9288-7ADFFD5C5AC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1982880"/>
            <a:ext cx="899172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vantGarde Md BT"/>
              </a:rPr>
              <a:t>Despesas Discricionária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006600"/>
                </a:solidFill>
                <a:uFillTx/>
                <a:latin typeface="AvantGarde Md BT"/>
              </a:rPr>
              <a:t> </a:t>
            </a:r>
            <a:br>
              <a:rPr sz="2600"/>
            </a:br>
            <a:r>
              <a:rPr b="1" lang="pt-BR" sz="4000" spc="-1" strike="noStrike">
                <a:solidFill>
                  <a:srgbClr val="006600"/>
                </a:solidFill>
                <a:latin typeface="AvantGarde Md BT"/>
              </a:rPr>
              <a:t>Principais Iniciativas</a:t>
            </a:r>
            <a:br>
              <a:rPr sz="3600"/>
            </a:br>
            <a:br>
              <a:rPr sz="3600"/>
            </a:br>
            <a:r>
              <a:rPr b="1" lang="pt-BR" sz="4400" spc="-1" strike="noStrike">
                <a:solidFill>
                  <a:srgbClr val="006600"/>
                </a:solidFill>
                <a:latin typeface="AvantGarde Md BT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926-627A-488C-863E-C4721371312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76520" y="1523880"/>
            <a:ext cx="5562360" cy="2362320"/>
          </a:xfrm>
          <a:prstGeom prst="flowChartAlternateProcess">
            <a:avLst/>
          </a:prstGeom>
          <a:solidFill>
            <a:srgbClr val="458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762120"/>
            <a:ext cx="899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-29160" y="533520"/>
            <a:ext cx="894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AvantGarde Md BT"/>
              </a:rPr>
              <a:t>Educação</a:t>
            </a:r>
            <a:br>
              <a:rPr sz="3600"/>
            </a:br>
            <a:r>
              <a:rPr b="1" lang="pt-BR" sz="2800" spc="-1" strike="noStrike">
                <a:solidFill>
                  <a:srgbClr val="006600"/>
                </a:solidFill>
                <a:latin typeface="AvantGarde Md BT"/>
              </a:rPr>
              <a:t>Programa de Desenvolvimento da Educação - P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2773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$ bilhõ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95280" y="2881440"/>
            <a:ext cx="7391520" cy="421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-21960" y="3886200"/>
            <a:ext cx="1901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Série Histórica</a:t>
            </a:r>
            <a:br>
              <a:rPr sz="1600"/>
            </a:br>
            <a:r>
              <a:rPr b="1" lang="pt-BR" sz="1200" spc="-1" strike="noStrike">
                <a:solidFill>
                  <a:srgbClr val="006600"/>
                </a:solidFill>
                <a:latin typeface="AvantGarde Md BT"/>
              </a:rPr>
              <a:t>Despesa Discricionária</a:t>
            </a:r>
            <a:br>
              <a:rPr sz="1600"/>
            </a:b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Educação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43200" y="1523880"/>
            <a:ext cx="5167080" cy="23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5C6-8AC6-48E7-A8EB-6251864B8B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762120"/>
            <a:ext cx="899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-88200" y="533520"/>
            <a:ext cx="9262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AvantGarde Md BT"/>
              </a:rPr>
              <a:t>Educação</a:t>
            </a:r>
            <a:br>
              <a:rPr sz="3600"/>
            </a:br>
            <a:r>
              <a:rPr b="1" lang="pt-BR" sz="2800" spc="-1" strike="noStrike">
                <a:solidFill>
                  <a:srgbClr val="006600"/>
                </a:solidFill>
                <a:latin typeface="AvantGarde Md BT"/>
              </a:rPr>
              <a:t>Fundo Desenvolvimento do Ensino Básico - FUNDE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752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38600"/>
                </a:solidFill>
                <a:latin typeface="Verdana"/>
              </a:rPr>
              <a:t>De acordo com o art 31, da Lei nº 11.494, de 20-06-07,  as transferências do FUNDEB ficaram da seguinte forma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774880"/>
            <a:ext cx="7559640" cy="88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3520" y="4191120"/>
            <a:ext cx="7696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438600"/>
                </a:solidFill>
                <a:uFillTx/>
                <a:latin typeface="Verdana"/>
              </a:rPr>
              <a:t>Complementação FUNDEB</a:t>
            </a:r>
            <a:r>
              <a:rPr b="1" lang="pt-BR" sz="1800" spc="-1" strike="noStrike">
                <a:solidFill>
                  <a:srgbClr val="438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38600"/>
                </a:solidFill>
                <a:latin typeface="Verdana"/>
              </a:rPr>
              <a:t>Reprog. 2007 – 2.006,9 milhões</a:t>
            </a:r>
            <a:br>
              <a:rPr sz="1800"/>
            </a:br>
            <a:r>
              <a:rPr b="1" lang="pt-BR" sz="1800" spc="-1" strike="noStrike">
                <a:solidFill>
                  <a:srgbClr val="438600"/>
                </a:solidFill>
                <a:latin typeface="Verdana"/>
              </a:rPr>
              <a:t>PLOA 2008 – 3.137,2 milhõ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B7E-49B7-4F49-B536-4DB65322721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52480" y="1600200"/>
            <a:ext cx="5410440" cy="2133720"/>
          </a:xfrm>
          <a:prstGeom prst="flowChartAlternateProcess">
            <a:avLst/>
          </a:prstGeom>
          <a:solidFill>
            <a:srgbClr val="458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762120"/>
            <a:ext cx="899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2361960" y="533520"/>
            <a:ext cx="4126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AvantGarde Md BT"/>
              </a:rPr>
              <a:t>Saúde</a:t>
            </a:r>
            <a:br>
              <a:rPr sz="3600"/>
            </a:br>
            <a:r>
              <a:rPr b="1" lang="pt-BR" sz="2800" spc="-1" strike="noStrike">
                <a:solidFill>
                  <a:srgbClr val="006600"/>
                </a:solidFill>
                <a:latin typeface="AvantGarde Md BT"/>
              </a:rPr>
              <a:t>Cumprimento EC nº 2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3078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$ bilhõ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07080" cy="2095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944856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417-5CD8-411C-B8D3-AEA8591DF85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00200" y="1981080"/>
            <a:ext cx="6019920" cy="2819520"/>
          </a:xfrm>
          <a:prstGeom prst="flowChartAlternateProcess">
            <a:avLst/>
          </a:prstGeom>
          <a:solidFill>
            <a:srgbClr val="458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762120"/>
            <a:ext cx="899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-164520" y="533520"/>
            <a:ext cx="949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AvantGarde Md BT"/>
              </a:rPr>
              <a:t>Segurança</a:t>
            </a:r>
            <a:br>
              <a:rPr sz="3600"/>
            </a:br>
            <a:r>
              <a:rPr b="1" lang="pt-BR" sz="2600" spc="-1" strike="noStrike">
                <a:solidFill>
                  <a:srgbClr val="006600"/>
                </a:solidFill>
                <a:latin typeface="AvantGarde Md BT"/>
              </a:rPr>
              <a:t>Programa Nacional de Segurança Pública com Cidadania</a:t>
            </a:r>
            <a:br>
              <a:rPr sz="2600"/>
            </a:br>
            <a:r>
              <a:rPr b="1" lang="pt-BR" sz="2600" spc="-1" strike="noStrike">
                <a:solidFill>
                  <a:srgbClr val="006600"/>
                </a:solidFill>
                <a:latin typeface="AvantGarde Md BT"/>
              </a:rPr>
              <a:t>PRONASCI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572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$ bilhõ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-23760" y="49528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Série Histórica</a:t>
            </a:r>
            <a:br>
              <a:rPr sz="1600"/>
            </a:b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Despesa Discricionária</a:t>
            </a:r>
            <a:br>
              <a:rPr sz="1600"/>
            </a:b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Justiç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7400" y="4038480"/>
            <a:ext cx="6934320" cy="3200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5120" y="2009880"/>
            <a:ext cx="5410080" cy="2766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6456240"/>
            <a:ext cx="24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clui recursos do PAN 200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BBF-0EA5-410C-B8EA-3A6EB263CED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762120"/>
            <a:ext cx="899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3717360" y="6667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AvantGarde Md BT"/>
              </a:rPr>
              <a:t>Defes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3276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$ bilhõ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184320" y="3686040"/>
            <a:ext cx="2466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Série Histórica</a:t>
            </a:r>
            <a:br>
              <a:rPr sz="1600"/>
            </a:b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Despesa Discricionária</a:t>
            </a:r>
            <a:br>
              <a:rPr sz="1600"/>
            </a:br>
            <a:r>
              <a:rPr b="1" lang="pt-BR" sz="1600" spc="-1" strike="noStrike">
                <a:solidFill>
                  <a:srgbClr val="006600"/>
                </a:solidFill>
                <a:latin typeface="AvantGarde Md BT"/>
              </a:rPr>
              <a:t>Defesa</a:t>
            </a:r>
            <a:br>
              <a:rPr sz="1600"/>
            </a:br>
            <a:r>
              <a:rPr b="1" lang="pt-BR" sz="1400" spc="-1" strike="noStrike">
                <a:solidFill>
                  <a:srgbClr val="006600"/>
                </a:solidFill>
                <a:latin typeface="AvantGarde Md BT"/>
              </a:rPr>
              <a:t>(inclusive Adm. Central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8153280" cy="5862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6320" y="1295280"/>
            <a:ext cx="901836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DA4-0A7F-4A4B-B21E-CB99CA7ED55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81080" y="1633680"/>
            <a:ext cx="5105520" cy="2006280"/>
          </a:xfrm>
          <a:prstGeom prst="flowChartAlternateProcess">
            <a:avLst/>
          </a:prstGeom>
          <a:solidFill>
            <a:srgbClr val="458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762120"/>
            <a:ext cx="899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776520" y="533520"/>
            <a:ext cx="7648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AvantGarde Md BT"/>
              </a:rPr>
              <a:t>Bolsa Famíli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vantGarde Md BT"/>
              </a:rPr>
              <a:t>Reajuste e Inclusão de Jovens 15 a 17 an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6219000" y="1825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6219000" y="2365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2016000" y="1811160"/>
            <a:ext cx="5038920" cy="1800"/>
          </a:xfrm>
          <a:prstGeom prst="line">
            <a:avLst/>
          </a:prstGeom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2016000" y="1811160"/>
            <a:ext cx="5038920" cy="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2016000" y="2058840"/>
            <a:ext cx="5038920" cy="1800"/>
          </a:xfrm>
          <a:prstGeom prst="line">
            <a:avLst/>
          </a:prstGeom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2016000" y="2058840"/>
            <a:ext cx="5038920" cy="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016000" y="3224160"/>
            <a:ext cx="5038920" cy="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2016000" y="3471840"/>
            <a:ext cx="5038920" cy="1440"/>
          </a:xfrm>
          <a:prstGeom prst="line">
            <a:avLst/>
          </a:prstGeom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2016000" y="3471840"/>
            <a:ext cx="5038920" cy="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6000" y="1600200"/>
            <a:ext cx="5604120" cy="1886040"/>
            <a:chOff x="2016000" y="1600200"/>
            <a:chExt cx="5604120" cy="1886040"/>
          </a:xfrm>
        </p:grpSpPr>
        <p:sp>
          <p:nvSpPr>
            <p:cNvPr id="207" name=""/>
            <p:cNvSpPr/>
            <p:nvPr/>
          </p:nvSpPr>
          <p:spPr>
            <a:xfrm>
              <a:off x="2016000" y="1811160"/>
              <a:ext cx="5038920" cy="142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16000" y="3224160"/>
              <a:ext cx="5038920" cy="26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2000" y="1825560"/>
              <a:ext cx="97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8000"/>
                  </a:solidFill>
                  <a:latin typeface="Arial"/>
                </a:rPr>
                <a:t>Valor atual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30520" y="1825560"/>
              <a:ext cx="64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8000"/>
                  </a:solidFill>
                  <a:latin typeface="Arial"/>
                </a:rPr>
                <a:t>8.605,2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54760" y="2146320"/>
              <a:ext cx="36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8000"/>
                  </a:solidFill>
                  <a:latin typeface="Arial"/>
                </a:rPr>
                <a:t>Adicional referente ao reajuste de 18,25% 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3480" y="2394000"/>
              <a:ext cx="322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8000"/>
                  </a:solidFill>
                  <a:latin typeface="Arial"/>
                </a:rPr>
                <a:t>(INPC acumulado no período de out/2003 a 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6280" y="261288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8000"/>
                  </a:solidFill>
                  <a:latin typeface="Arial"/>
                </a:rPr>
                <a:t>maio/2007)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30520" y="2365200"/>
              <a:ext cx="64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8000"/>
                  </a:solidFill>
                  <a:latin typeface="Arial"/>
                </a:rPr>
                <a:t>1.070,0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54760" y="2917800"/>
              <a:ext cx="293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8000"/>
                  </a:solidFill>
                  <a:latin typeface="Arial"/>
                </a:rPr>
                <a:t>Inclusão de Jovens (15 a 17 anos)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72000" y="288936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8000"/>
                  </a:solidFill>
                  <a:latin typeface="Arial"/>
                </a:rPr>
                <a:t>693.,3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2000" y="3238560"/>
              <a:ext cx="101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8000"/>
                  </a:solidFill>
                  <a:latin typeface="Arial"/>
                </a:rPr>
                <a:t>Valor 2008 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39800" y="3238560"/>
              <a:ext cx="74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8000"/>
                  </a:solidFill>
                  <a:latin typeface="Arial"/>
                </a:rPr>
                <a:t>10.368,5</a:t>
              </a:r>
              <a:endParaRPr b="0" lang="en-US" sz="15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3224160"/>
              <a:ext cx="5038920" cy="1800"/>
            </a:xfrm>
            <a:prstGeom prst="line">
              <a:avLst/>
            </a:prstGeom>
            <a:ln w="0">
              <a:solidFill>
                <a:srgbClr val="33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2200" y="1600200"/>
              <a:ext cx="144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R$ milhões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6C3-6B12-45F0-B4BB-A54A956150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0080" y="609480"/>
            <a:ext cx="8815320" cy="613260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993960" y="609480"/>
            <a:ext cx="709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Orçamento Fiscal e da Seguridade Soci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992160"/>
            <a:ext cx="7619760" cy="567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D55-5C9C-43C3-B258-86690FB56A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82628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00"/>
                </a:solidFill>
                <a:latin typeface="Verdana"/>
              </a:rPr>
              <a:t>Projeto de Lei </a:t>
            </a:r>
            <a:br>
              <a:rPr sz="4400"/>
            </a:br>
            <a:r>
              <a:rPr b="1" lang="pt-BR" sz="4400" spc="-1" strike="noStrike">
                <a:solidFill>
                  <a:srgbClr val="003300"/>
                </a:solidFill>
                <a:latin typeface="Verdana"/>
              </a:rPr>
              <a:t>Orçamentária 2008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4419720"/>
            <a:ext cx="89917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6600"/>
                </a:solidFill>
                <a:latin typeface="AvantGarde Md BT"/>
              </a:rPr>
              <a:t>Anexos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2590920"/>
            <a:ext cx="89917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6600"/>
                </a:solidFill>
                <a:latin typeface="AvantGarde Md BT"/>
              </a:rPr>
              <a:t>Anexos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A1E-81A0-4906-9610-98B62266E4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609480"/>
            <a:ext cx="8991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AvantGarde Md BT"/>
              </a:rPr>
              <a:t>I - ORÇAMENTOS FISCAL E DA SEGURIDADE SOCIAL</a:t>
            </a:r>
            <a:br>
              <a:rPr sz="2500"/>
            </a:br>
            <a:r>
              <a:rPr b="1" lang="pt-BR" sz="2000" spc="-1" strike="noStrike">
                <a:solidFill>
                  <a:srgbClr val="006600"/>
                </a:solidFill>
                <a:latin typeface="AvantGarde Md BT"/>
              </a:rPr>
              <a:t>Despesas Primári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4C4-202E-4D90-BDA8-8C753BF8FE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914400"/>
            <a:ext cx="8758080" cy="487692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83840" y="1143000"/>
            <a:ext cx="864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V - Déficit do Regime Geral da Previdência Social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43080" y="1463760"/>
            <a:ext cx="8458200" cy="39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FD8-659A-44D0-97DB-F0C32DB783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64880" y="914400"/>
            <a:ext cx="540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VI - Evolução do Salário-Mínim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4438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C5D-04A5-45B5-A818-D18BFEC4964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2280" y="750960"/>
            <a:ext cx="8991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AvantGarde Md BT"/>
              </a:rPr>
              <a:t>VII - Orçamento de Investimento: Estatai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3120" y="1143000"/>
            <a:ext cx="8612280" cy="547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4FF-B230-42AE-8FEA-F87C0403C8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6858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Visão Geral Orçamento 2008 - Despesa Tot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71520" y="797040"/>
            <a:ext cx="9533160" cy="59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9920" y="5791320"/>
            <a:ext cx="1523880" cy="9903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65C-A486-4E8D-B51C-FF609CB02B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6858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Visão Geral Orçamento 2008 - Despesa Tot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23760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AF1-F92E-48CB-997A-7F3D6F38BE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Visão Geral Orçamento 2008 - Despesa Discricionári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2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E0E-7DD3-4D97-8002-D77F7FC3F8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0080" y="990720"/>
            <a:ext cx="8815320" cy="441936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1589400" y="1138320"/>
            <a:ext cx="617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Resultado Primário do Setor Públ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1522440"/>
            <a:ext cx="7543800" cy="377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333-B24F-436C-AE1A-4CAD726D21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0080" y="766800"/>
            <a:ext cx="8940600" cy="493560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4384080" y="2208240"/>
            <a:ext cx="51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8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1679040" y="990720"/>
            <a:ext cx="56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Composição da Receita Primár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1535040"/>
            <a:ext cx="8786880" cy="376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57E-CC18-45B5-A532-DB61DC490C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00" y="838080"/>
            <a:ext cx="8955000" cy="4114800"/>
          </a:xfrm>
          <a:prstGeom prst="flowChartAlternateProcess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2656080" y="1066680"/>
            <a:ext cx="409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Síntese do Orçamento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73280"/>
            <a:ext cx="8610480" cy="31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59E-450E-4B95-A79A-50C32889EE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7:34:50Z</dcterms:created>
  <dc:creator>Márcio Luiz de Albuquerque Oliveira</dc:creator>
  <dc:description/>
  <dc:language>en-US</dc:language>
  <cp:lastModifiedBy>deisiane.gama</cp:lastModifiedBy>
  <dcterms:modified xsi:type="dcterms:W3CDTF">2007-08-31T14:42:47Z</dcterms:modified>
  <cp:revision>381</cp:revision>
  <dc:subject/>
  <dc:title>Atividades Consolidadas 2007</dc:title>
</cp:coreProperties>
</file>